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4471-2BCC-4B96-A802-D169A524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BB1A-54FC-402A-9938-83E2D186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6635-53C3-4E6F-ADF4-EAFEA100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48F5-B539-4327-AF1C-8B25495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E3C-E126-481C-B385-D57C3338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58B2-1CC0-4A62-BCB9-32FE640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E2D-8C21-49C7-8C68-F412691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C3C-C4A4-4553-930E-85A9932D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1F9B-E3AF-4823-A157-68DDE6A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B66D-7C1E-4D7B-B9FA-DF1B690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755F-5EA8-4773-B2BE-A6555EC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3DF7-73D4-43ED-89C4-29079D1B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525-425B-4A95-95E6-0E1AA11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45F9-3C0E-4235-9E49-E7146D4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971-EB38-4C96-8BFE-078C96B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602-44D4-4854-A9A4-64DE0E4F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7BB-3319-4EDE-B064-69A4C531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FC2A-9D30-488E-9644-445B99B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F6E6-A5E7-407C-A5C2-591068B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F392-4370-4AD5-BA57-9834FEF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06D4-10DB-439A-8DEB-E45C1E9F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61E7-7A4B-4F35-8C99-691E2CE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2A7A-66F5-4D5B-8203-D89F6DD1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7FBE-A92F-4E34-94D5-85BC7E7C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BF35-00E1-41B7-9150-8BB4C90AFF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4525-E55A-45E1-B45F-322F91E83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50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utah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8110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98111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990720" y="152280"/>
            <a:ext cx="75438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t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483696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51055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af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/2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5405400"/>
            <a:ext cx="2666880" cy="14526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666880" y="66135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924680" y="228600"/>
            <a:ext cx="10670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ate So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/7/10,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name: Ut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lt Lak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2,233,16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 in January4 1896 and It was the 45 state to join the U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 Name: Bee Hiv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Sego L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American Seagu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Utah, We Love Th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Behind The Name: The name was taken from the Ute Indians whose name means “People Of The Mountain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0"/>
          <a:stretch/>
        </p:blipFill>
        <p:spPr>
          <a:xfrm>
            <a:off x="5715000" y="2438280"/>
            <a:ext cx="1579680" cy="17528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315200" y="3649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Utah: Map and State Flag"/>
          <p:cNvPicPr/>
          <p:nvPr/>
        </p:nvPicPr>
        <p:blipFill>
          <a:blip r:embed="rId1"/>
          <a:srcRect l="0" t="0" r="-3675" b="62795"/>
          <a:stretch/>
        </p:blipFill>
        <p:spPr>
          <a:xfrm>
            <a:off x="1905120" y="304920"/>
            <a:ext cx="2819160" cy="20145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Utah: Map and State Flag"/>
          <p:cNvPicPr/>
          <p:nvPr/>
        </p:nvPicPr>
        <p:blipFill>
          <a:blip r:embed="rId2"/>
          <a:srcRect l="0" t="33487" r="0" b="0"/>
          <a:stretch/>
        </p:blipFill>
        <p:spPr>
          <a:xfrm>
            <a:off x="5562720" y="2666880"/>
            <a:ext cx="2639880" cy="34959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9480" y="4800600"/>
            <a:ext cx="4724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Quick Facts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22September 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://bensguide.gpo.gov/3-5/state/uta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762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te flag is a very wonderful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All images Copyright © 1997 - 2000 WriteLine. All Rights Reserved. Temple Square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8088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mple Squ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9/23/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ostcardsfrom.com/t1/98110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50292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ulti-spired chaplei assumes quiet and peaceful dig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52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All images Copyright © 1997 - 2000 WriteLine. All Rights Reserved. Moab UT Mountain lion track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33520" y="4952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oab,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9/23/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ostcardsfrom.com/t1/98111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33526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Quite little town on the shore of the Colorado River had some wild inhabitants  over the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58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Copyright © 1998 WriteLine. All Rights Reserved. Sego Lily"/>
          <p:cNvPicPr/>
          <p:nvPr/>
        </p:nvPicPr>
        <p:blipFill>
          <a:blip r:embed="rId1"/>
          <a:stretch/>
        </p:blipFill>
        <p:spPr>
          <a:xfrm>
            <a:off x="0" y="0"/>
            <a:ext cx="2506680" cy="29718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Copyright © 1998 WriteLine. All Rights Reserved. Seagull"/>
          <p:cNvPicPr/>
          <p:nvPr/>
        </p:nvPicPr>
        <p:blipFill>
          <a:blip r:embed="rId2"/>
          <a:stretch/>
        </p:blipFill>
        <p:spPr>
          <a:xfrm>
            <a:off x="6172200" y="4384800"/>
            <a:ext cx="2971800" cy="24732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Copyright © 1998 WriteLine. All Rights Reserved. Blue Spruce tree"/>
          <p:cNvPicPr/>
          <p:nvPr/>
        </p:nvPicPr>
        <p:blipFill>
          <a:blip r:embed="rId3"/>
          <a:stretch/>
        </p:blipFill>
        <p:spPr>
          <a:xfrm>
            <a:off x="0" y="3733920"/>
            <a:ext cx="2146320" cy="3124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581280" y="91440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Utah Stat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/9/2012,http://www.postcardsfrom.com/stamp/stamp-u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5334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tes bird, tree and flower are beautif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395 0.027 0.07991 0.06 0.07991 C 0.099 0.07991 0.113 0.03995 0.119 0.01598 L 0.125 -0.01598 C 0.131 -0.03995 0.146 -0.07991 0.19 -0.07991 C 0.218 -0.07991 0.25 -0.04395 0.25 0 C 0.25 0.04395 0.218 0.07991 0.19 0.07991 C 0.146 0.07991 0.131 0.03995 0.125 0.01598 L 0.119 -0.01598 C 0.113 -0.03995 0.099 -0.07991 0.06 -0.07991 C 0.027 -0.07991 0 -0.04395 0 0 Z">
                                      <p:cBhvr>
                                        <p:cTn id="6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23:35Z</dcterms:created>
  <dc:creator>install</dc:creator>
  <dc:description/>
  <dc:language>en-US</dc:language>
  <cp:lastModifiedBy>install</cp:lastModifiedBy>
  <dcterms:modified xsi:type="dcterms:W3CDTF">2010-10-14T13:19:43Z</dcterms:modified>
  <cp:revision>10</cp:revision>
  <dc:subject/>
  <dc:title>Slide 1</dc:title>
</cp:coreProperties>
</file>